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391-7042-4675-B476-DBBC3A35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3CA-740B-4645-994D-1E397D8A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1AD45-0AA6-4C35-BD3D-330E8EDD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576DF-FC04-40C1-965E-89201821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B4C39-8C18-4D39-B52F-095904F6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31142-DADB-4BBB-B713-6159FD0B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6A404-BB61-48A9-8F5C-7F539F42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04148-FA70-4C1E-9E37-563A3350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13BAA-1A4C-471D-88B9-26D40715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83E8A-9826-459E-8BF2-7E0B64E9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6D59C-ABD1-4447-B36D-C2F4C56B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B96-4E5E-4F88-BC43-9260AF33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3DC-3048-4CFB-AFF0-9937EE8D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887F-4FD9-4D52-B4EE-8B7EBC68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C889-CF38-4945-966F-12D52F86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E54B-30AF-45D2-B9A0-4BF87F80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FC4E-561B-4C2A-B894-6F45C3DA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62E9-FE18-4DBC-937D-EF0B131B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E979-E852-4D74-BD28-C3F926D0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BF3D-B098-41AE-9C57-35EA9D56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B1D-9ADA-492F-818F-90973408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6B40-B531-48FF-A90E-59A64851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ACF3-2FD8-4BB3-B29A-93218597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EE02-4626-46BF-A3B0-71FF41A7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8FC3-2CEF-4585-9F74-E5AA48E8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8088-5BF0-43D0-A3B1-819DDE1B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EA46-CF85-4CB0-95F9-645459E2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527AA-8A86-4C2A-B89E-C14CDC76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AEA4-8AA1-4EC7-B041-1457E41B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03C5-8A2A-4386-8E28-B72776F6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116B-516C-40A9-B0C6-6F0BE219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275-9D57-4598-8204-4ADA0B97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BD9F-E813-407F-B58F-8D140B87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88F4-3BF3-4830-8CFE-9D815F20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FA95-B0B6-41B6-A585-AC14B076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7EE5-3E0D-4171-9E15-A820A5A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D466-135B-4F32-8037-699E7F8A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CDB7F-2B98-4C8A-8F47-7C2CF301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ED48-8194-424C-ABBA-FAACB677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BB553-560D-4184-B63B-3E217D0D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A7AD-0969-4260-8A9E-EAAD0F42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135D-35F6-4EB3-B137-A5FE5E9E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522-9090-4B10-B4EB-6D282ADA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9C6A-D491-49E4-90F8-D12260A8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34F8D-F306-4ED4-B938-6B43B637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E8DD-4061-43AF-8328-1085E902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4B2B5-8D28-4236-8DDD-9F079D74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7F79F-740E-4C37-B380-55BC2133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88A6F-83A7-4C9B-8A9D-86B7DA45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DB386-5A6F-493B-910F-DE5F0390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81B96-DF76-49BE-A4B0-5BB0A84A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48695-458B-429C-AC50-C0932B32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BD087-0E57-49D6-8094-038C5E1E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813-7251-4BE0-9B96-C42F46D5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2BCFA-8A32-492B-AD19-CFC68D5E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D62FD-B00A-471A-8EBF-F4B968BC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3EF23-F2F0-400B-941D-D4C72218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3CF9B-7687-40CD-BBE2-52917D69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4E71-96A6-4B9D-98B9-783AC3A1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3A8DA-8E5E-40F1-B4C3-80AF8FC6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8E22-C5FA-475A-B8E6-9647E8D6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DD34A-8BC3-4F46-9C87-321D9BD1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42766-B3A4-4DEB-9931-19DD6BAF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47244-9211-409D-A66D-77DCC9AA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198-200C-42EE-84C6-331E5D5F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11324-01A5-47C0-81A9-CFD3996A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12B29-1056-48F6-B46D-6BFDA573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51BB7-0E4C-4AF6-8CB5-82CA7FAA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01393-7B3C-4C14-99B2-A1947A67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C547-92DD-4DD8-B5DB-F07C4245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3A196-EACE-46C6-9B62-42CE6302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3C734-C6D3-406A-BCF8-D8C6234F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64AB9-CDFC-4DE3-8DDE-E8F2EB00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426B-B9C4-4335-A518-C9A6EF54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C139A-921D-4233-B28E-2A79601C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BA2-428B-465B-9216-DD0CCFCA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62E33-F72F-4A4A-A2DD-1FED633F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2EF18-904E-4151-8673-00CC60E1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46A1-2377-424B-9414-2B70B32B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A44D8-648F-42D6-9F75-4EE19325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8DAA3-A9BA-4D03-BA38-BD74F7A4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107CD-EAAE-446C-985D-46EBBEC8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21642-7156-4A69-BEAB-5850D65C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818E7-EE1F-48DC-B822-05F921A5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B41BA-5A3F-4118-BC05-5913A0CB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219D3-5B8F-45A6-9DC2-3194AB5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B43-6222-41CD-815E-27BC952D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E390B-59F6-45F0-B78B-544FB3FF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76B02-3B2E-4EEA-9255-54210CB7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39BB0-C6F3-4CB8-B9FC-20DC58DB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8F5EA-673F-4074-8FE0-B79979DD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A977B-5EB7-4299-9D85-A41D3C54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299A8-3547-4F1A-B848-6654ACD9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37110-677A-49BB-9664-ECFB581F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A61EC-D9A8-4CB7-8AD4-AC11CAF8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D6E31-0ABB-4772-BE17-C613E844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2BAEA-6CD2-4164-8DF3-E816F10B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339-3444-407F-8838-A8F38EA9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2BF02-318B-4CF1-8858-B8E5A0DC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B885F-7083-479D-9724-7016BB18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21A5B-99D5-4FC4-9B4B-7C3AF201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D2AD1-6421-4C17-9673-8411171E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D5A32-6D94-4140-B5A2-7CD6ED93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32523-2ADA-4BF2-AEBD-4A43266E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E481A-F3BB-43EB-8EF4-474A098E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97F95-F176-4276-A5DD-1E290AED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3A907-EFDC-4C14-8BCC-304ECC02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D1DB0-6204-4198-BE2D-87D8BF32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C877-6236-4070-BB72-1796E30BFA4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0ED5-7322-4F5A-8991-0E40838381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CBDA-FCD2-4EFF-8950-9C9846F623B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85DE-7CC8-4F08-B770-7E13640131B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0B82-C36C-4D41-A0ED-AD992BB4515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C2EF-DF63-4912-8C4A-5A48360E6E7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40B6-4FB0-4291-A3B6-202A6EBE6D3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485E-3B0A-430C-814F-0301030E288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BA0F-F68F-4C10-AA21-621051E6E0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3024000" cy="216036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2"/>
          <p:cNvSpPr/>
          <p:nvPr/>
        </p:nvSpPr>
        <p:spPr>
          <a:xfrm>
            <a:off x="395280" y="5493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Black"/>
              </a:rPr>
              <a:t>УМК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 Black"/>
              </a:rPr>
              <a:t>«Начальная школа XXI века» под ред. проф. Н.Ф. Виноградово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C:\Users\user\AppData\Local\Microsoft\Windows\Temporary Internet Files\Content.IE5\24UIG0M5\MC900343297[1].wmf"/>
          <p:cNvPicPr/>
          <p:nvPr/>
        </p:nvPicPr>
        <p:blipFill>
          <a:blip r:embed="rId2"/>
          <a:stretch/>
        </p:blipFill>
        <p:spPr>
          <a:xfrm>
            <a:off x="826920" y="3645000"/>
            <a:ext cx="266544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1904760" cy="2552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1905120" cy="2552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905120" cy="2505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4"/>
          <a:stretch/>
        </p:blipFill>
        <p:spPr>
          <a:xfrm>
            <a:off x="3851280" y="2637000"/>
            <a:ext cx="1905120" cy="2533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"/>
          <p:cNvPicPr/>
          <p:nvPr/>
        </p:nvPicPr>
        <p:blipFill>
          <a:blip r:embed="rId5"/>
          <a:stretch/>
        </p:blipFill>
        <p:spPr>
          <a:xfrm>
            <a:off x="7020000" y="162864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"/>
          <p:cNvPicPr/>
          <p:nvPr/>
        </p:nvPicPr>
        <p:blipFill>
          <a:blip r:embed="rId6"/>
          <a:stretch/>
        </p:blipFill>
        <p:spPr>
          <a:xfrm>
            <a:off x="5940360" y="1052640"/>
            <a:ext cx="1905120" cy="2543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1" descr=""/>
          <p:cNvPicPr/>
          <p:nvPr/>
        </p:nvPicPr>
        <p:blipFill>
          <a:blip r:embed="rId7"/>
          <a:stretch/>
        </p:blipFill>
        <p:spPr>
          <a:xfrm>
            <a:off x="6012000" y="407664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2"/>
          <p:cNvSpPr/>
          <p:nvPr/>
        </p:nvSpPr>
        <p:spPr>
          <a:xfrm>
            <a:off x="395280" y="260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  <a:ea typeface="Aharoni"/>
              </a:rPr>
              <a:t>Учебники УМК «Начальная школа 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XXI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  <a:ea typeface="Aharoni"/>
              </a:rPr>
              <a:t>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2"/>
          <a:stretch/>
        </p:blipFill>
        <p:spPr>
          <a:xfrm>
            <a:off x="7020000" y="112536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3"/>
          <a:stretch/>
        </p:blipFill>
        <p:spPr>
          <a:xfrm>
            <a:off x="4859280" y="4149720"/>
            <a:ext cx="1905120" cy="2467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"/>
          <p:cNvPicPr/>
          <p:nvPr/>
        </p:nvPicPr>
        <p:blipFill>
          <a:blip r:embed="rId4"/>
          <a:stretch/>
        </p:blipFill>
        <p:spPr>
          <a:xfrm>
            <a:off x="250920" y="112536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"/>
          <p:cNvPicPr/>
          <p:nvPr/>
        </p:nvPicPr>
        <p:blipFill>
          <a:blip r:embed="rId5"/>
          <a:stretch/>
        </p:blipFill>
        <p:spPr>
          <a:xfrm>
            <a:off x="2700360" y="414972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"/>
          <p:cNvPicPr/>
          <p:nvPr/>
        </p:nvPicPr>
        <p:blipFill>
          <a:blip r:embed="rId6"/>
          <a:stretch/>
        </p:blipFill>
        <p:spPr>
          <a:xfrm>
            <a:off x="6300720" y="314172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"/>
          <p:cNvPicPr/>
          <p:nvPr/>
        </p:nvPicPr>
        <p:blipFill>
          <a:blip r:embed="rId7"/>
          <a:stretch/>
        </p:blipFill>
        <p:spPr>
          <a:xfrm>
            <a:off x="3780000" y="1557360"/>
            <a:ext cx="1904760" cy="2476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1"/>
          <p:cNvSpPr/>
          <p:nvPr/>
        </p:nvSpPr>
        <p:spPr>
          <a:xfrm>
            <a:off x="324000" y="260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Рабочие тетради УМК «Начальная школа</a:t>
            </a:r>
            <a:r>
              <a:rPr b="0" lang="en-US" sz="32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XXI</a:t>
            </a:r>
            <a:r>
              <a:rPr b="0" lang="en-US" sz="32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71520" y="615960"/>
            <a:ext cx="8302680" cy="3743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:\Users\user\AppData\Local\Microsoft\Windows\Temporary Internet Files\Content.IE5\PK4TQR03\MC900089084[1].wmf"/>
          <p:cNvPicPr/>
          <p:nvPr/>
        </p:nvPicPr>
        <p:blipFill>
          <a:blip r:embed="rId2"/>
          <a:stretch/>
        </p:blipFill>
        <p:spPr>
          <a:xfrm>
            <a:off x="3276720" y="4365720"/>
            <a:ext cx="2327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7974000" cy="5108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C:\Users\user\AppData\Local\Microsoft\Windows\Temporary Internet Files\Content.IE5\1KA52DSJ\MC900389102[1].wmf"/>
          <p:cNvPicPr/>
          <p:nvPr/>
        </p:nvPicPr>
        <p:blipFill>
          <a:blip r:embed="rId2"/>
          <a:stretch/>
        </p:blipFill>
        <p:spPr>
          <a:xfrm>
            <a:off x="4859280" y="4797360"/>
            <a:ext cx="18082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7"/>
          <p:cNvSpPr/>
          <p:nvPr/>
        </p:nvSpPr>
        <p:spPr>
          <a:xfrm>
            <a:off x="431640" y="1916280"/>
            <a:ext cx="871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победитель в номинации «Учебник </a:t>
            </a:r>
            <a:r>
              <a:rPr b="0" lang="en-US" sz="3200" spc="-1" strike="noStrike">
                <a:solidFill>
                  <a:srgbClr val="c00000"/>
                </a:solidFill>
                <a:latin typeface="Franklin Gothic Book"/>
              </a:rPr>
              <a:t>XXI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обладатель книжного "Оскара" на XIV Московской международной книжной ярм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удостоен Премии Президента РФ в области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8"/>
          <p:cNvSpPr/>
          <p:nvPr/>
        </p:nvSpPr>
        <p:spPr>
          <a:xfrm>
            <a:off x="684360" y="260280"/>
            <a:ext cx="813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 Black"/>
              </a:rPr>
              <a:t>УМК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 Black"/>
              </a:rPr>
              <a:t>«Начальная школа XXI века» под ред. проф. Н.Ф. Виноградово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9:09:02Z</dcterms:created>
  <dc:creator>user</dc:creator>
  <dc:description/>
  <dc:language>en-US</dc:language>
  <cp:lastModifiedBy>user</cp:lastModifiedBy>
  <dcterms:modified xsi:type="dcterms:W3CDTF">2013-04-29T13:43:57Z</dcterms:modified>
  <cp:revision>22</cp:revision>
  <dc:subject/>
  <dc:title>Система учебников    "Начальная школа XXI века"</dc:title>
</cp:coreProperties>
</file>